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FB3-E2C7-4E1E-AF3A-0A01B6B6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A85-0BB4-43B0-8382-17C9F13B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60E-A646-45BB-928E-8DE13D03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78B-5D22-4B74-98DE-FB8089C0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425-F85D-40A7-8A9A-A4C09FA4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991-4D26-44D4-B06A-24AFBEDD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F08-D70C-4F66-A3D3-846F6EDA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5EC-0C33-4694-8E6B-73ED0E9A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1F3-71CA-4E0A-88C5-C8473D40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116-E596-4B48-BBE2-6E8D757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5B9-3A2B-480E-A69B-7D2BBDFA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102-7882-4467-BAF1-96361BE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E75E-DE22-4F6C-B585-40067E8B8E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560" y="502884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служенный деятель искусств РСФСР. Член-корреспондент Академии художеств ССС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419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2520" y="396252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рой Социалистического Труда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ный художник ССС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йствительный член Академии художеств ССС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уреат Ленинской премии и Государственных премий ССС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457200" y="504720"/>
            <a:ext cx="43052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495680" y="4191120"/>
            <a:ext cx="4191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трет дважды Героя Советского Союза  генерал-полковник В.И.Чуйкова. 194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рамор. Высота 1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3971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1640" y="449532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трет дважды Героя Советского Союза  генерала армии И.Д.Черняховского.19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ронза, гранит. Высота 1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228600" y="262080"/>
            <a:ext cx="40482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29200" y="373392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 генерал- лейтенанту М.Г.Ефремову в Вязь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чая модель.1946. Бронза. Высота 115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4572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800600" y="3733560"/>
            <a:ext cx="4038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ин-освободитель. Фрагмент памятника- ансамбля «Воинам Советской Армии, павшим в боях с фашизмом» в Трептов -парке. 1946-1949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хитектор Я.Белополь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ронза. Высота 13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р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152280" y="57240"/>
            <a:ext cx="45720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943600" y="2666880"/>
            <a:ext cx="3200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ять насмерть!». Фрагмент памятника-ансабля «Героям Сталинградской битвы» 1960-196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хитекторы Я.Белопольский, В.Демин, Ф.Лы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тон. Высота фигуры 12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лгоград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52280" y="324000"/>
            <a:ext cx="563904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33920" y="3962520"/>
            <a:ext cx="4952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на-мать зовет. Фрагмент памятника-ансабля «Героям Сталинградской битвы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тон. Высота фигуры 52м, до конца меча-102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лгогр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28576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0" y="434304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Т.Твардовский 194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ронза. Высота 4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457200" y="301680"/>
            <a:ext cx="4419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723920" y="45716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ный художник СССР. Действительный член Академии художеств СССР. Лауреат Государственных премий ССС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374760" y="566640"/>
            <a:ext cx="41623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43040" y="4952880"/>
            <a:ext cx="3429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тизанка. 194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ронза. Высота 4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810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66720" y="47242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трет полковника Б.А.Юсупова. 194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ронза. Высота 34(без постамент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338040" y="152280"/>
            <a:ext cx="39625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8840" y="3733560"/>
            <a:ext cx="3886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ой Социалистического Тр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одный художник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ительный член Академии художеств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уреат Ленинской премии СССР и Государственной премии РСФСР имени И.Е.Реп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лен-корреспондент Академии искусств Г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28600" y="433440"/>
            <a:ext cx="47149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181480" y="4343040"/>
            <a:ext cx="3733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трет дважды Героя Советского Союза летчика М.Г.Гареева. 194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зальт. Высота 7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ая Третьяковская галерея, Моск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480996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267080" y="44953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 дважды Героя Советского Союза генералу армии И.Д.Черняховскому. 19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хитектор Л.Г. Голубов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ронза, гранит. Высота фигуры 4 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льню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270000" y="6480"/>
            <a:ext cx="4010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85840" y="518148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е допустим !». 194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угун. Высота Фигуры 4 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нинградский путепровод , Моск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28600" y="237960"/>
            <a:ext cx="36576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9-1</cp:lastModifiedBy>
  <dcterms:modified xsi:type="dcterms:W3CDTF">2015-03-31T08:59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